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comments/comment5.xml" ContentType="application/vnd.openxmlformats-officedocument.presentationml.comments+xml"/>
  <Override PartName="/ppt/comments/comment3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6858000" cy="9144000"/>
</p:presentation>
</file>

<file path=ppt/commentAuthors.xml><?xml version="1.0" encoding="utf-8"?>
<p:cmAuthorLst xmlns:p="http://schemas.openxmlformats.org/presentationml/2006/main">
  <p:cmAuthor id="0" name="laitfo" initials="l"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Relationship Id="rId66" Type="http://schemas.openxmlformats.org/officeDocument/2006/relationships/commentAuthors" Target="commentAuthors.xml"/>
</Relationships>
</file>

<file path=ppt/comments/comment32.xml><?xml version="1.0" encoding="utf-8"?>
<p:cmLst xmlns:p="http://schemas.openxmlformats.org/presentationml/2006/main">
  <p:cm authorId="0" dt="2012-12-16T20:03:28.566000000" idx="2">
    <p:pos x="2451" y="287"/>
    <p:text>This is not definition of epidurals and can confuse</p:text>
  </p:cm>
</p:cmLst>
</file>

<file path=ppt/comments/comment5.xml><?xml version="1.0" encoding="utf-8"?>
<p:cmLst xmlns:p="http://schemas.openxmlformats.org/presentationml/2006/main">
  <p:cm authorId="0" dt="2012-12-16T20:15:28.710000000" idx="1">
    <p:pos x="5328" y="1342"/>
    <p:text>PCAshould be with the  section under slide 28 rather than a section of its own</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D47BB-1BA7-4DED-8AF3-1C9B09058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steroids until other treatment modalities are initiated and then decrease slow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F87E-043B-4715-A0B1-43B29A008453}"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56641-C99D-4D8F-AE4B-BD24B1ECC755}"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5C87-0841-4F0D-9C8D-F1C3C619EFD9}"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68FC7-426B-409B-8B8A-DBC903F58D4A}"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3F4A-DE32-497D-AAFC-E0DA77C2560D}"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B6F5-DF42-46E9-84E1-9D9A8513937B}"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DE5F-31D3-483D-B31C-722C5B634B25}"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6F12F-A38E-444D-B4A2-6BA7B65F723D}"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9FD7F-99A9-4B59-95DE-1CD044434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9AD21-6575-4A0A-9E51-E00387137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F90979-584B-444B-92D3-2C45BFF1BC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F99F28-44C8-49ED-A394-74CDDA3855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C9F296-05C5-4A89-9FD7-8B63A633F7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733AAC-12C0-416D-9661-65247CCA19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CB8957-FFEE-4492-896E-6A56499CD5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B1D433-B5A2-48D4-9CE8-9B6F63FBEC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FC594B-C5A2-4FB0-8AEE-43E8C22916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75DF56-C2C0-429A-8C8A-108506D0A0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687A48-9E92-45BC-AA11-BAF172418B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69259F-E593-4347-A469-AA7BBF525A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ACF47-C285-4942-AF39-C7700A7DE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251F81-9DE2-43F7-B472-ECB8B7B2B6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4490F3-D82A-457D-959D-C51317C366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45B35D-143C-4B9F-98A2-0E49D5BF87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84AA4E-04ED-4168-B5CC-B6084EF146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79F9EF-0FB5-4D07-8E7C-E3B5C7FC69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B344E9-4B0E-40CC-8600-755B05F674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BE0FA7-21C7-4E29-9F44-62E1A600F2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908DF0-EB75-4097-84F7-B83CC48695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3E40FD-5668-41CC-A5B8-8676BFA465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4B4D28-4D4F-4608-9875-1086900BE6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9CC44-0588-49C0-8680-54D1BE8B6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9ABF86-6B07-4293-940B-9CD7B5251B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68D22A-240C-4514-9B2E-634FCE5F03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FF7C37-2ACB-404D-97DF-81E77BB2CF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3B1598-3EBD-48AB-A8AF-772262682B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B73E2C-48AB-45A1-B5FB-EA23E68331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E33A2B-4F98-4944-A9B4-53301D2CF3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645166-D17E-4CCC-8B66-51AFABD63E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F45EFB-6319-44D9-A6B9-93511B5146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E74FBD-5696-46F8-8831-49DD611815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56BA6C-972D-4B40-AFA6-983467A719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189AC8-1D52-482B-B95F-3AC1DFEA59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17CD58-FDAA-4938-956B-3868A61DED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194670-E85C-40D3-B1FD-5D288A304C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6025D7-B0A5-4F04-9DF1-4F72A94CB8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A1569C-620C-4936-9A24-1919F57DAC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A81FEF-DD1D-4D92-9526-86DEBB968E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D71421-A028-4D09-B2F7-E9130700F7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414813-0180-442D-8DBE-3BD5597217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CA28EA-1739-4B5A-AD9F-8EAD6160DE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E1E853-86EB-487C-B0F4-F10E021649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99521C-E88F-42FE-8C37-FF145C73A6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A83C40-77F6-4649-8231-5BCD36DE30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2888C3-6509-4E24-B3D3-8BA288046C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AD059B-8C8E-400D-8BE1-F4AADEDD20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6F389A-7141-4D5B-B379-6C95ACA893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AFDA9C8-BF9F-42DD-8006-2E0183F6E28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2138916-C4FC-4A15-A212-C79A55AC81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319A00-80A7-41D1-9C5D-DFDC254BF6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2DBCA2-6A95-4078-A3DF-8AF4DBA0BE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4BE29C-A8BD-4E65-BF5F-CAD0FEEA24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6AFAB4C-DCAA-4D32-8025-1E9FE931B2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6BEC1C-AA7D-4944-A6BA-72639B3AEC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8A4ABD-ABF9-44EB-9490-EF56A00AE8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18A0CD-2CDE-4D67-872D-0FB437E3FC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3F4702C-36C0-4DAD-93F8-BC245B34AA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DB146F5-C3F8-424B-A878-225D37BE807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37F9AC4-0682-4647-A794-BA00ABE0C4F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CCB74F7-6865-4812-AC3F-86A99E20998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389944B-0CDA-4B31-84EC-7507B8CC552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5F2F3E-1924-4615-A746-5F7C4BE4A6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243D81-A245-4ED5-9E4C-817AE635C9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7473CE-C179-403B-94B2-A2DFEFB2BAE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621C75-4E7E-4AD8-B15F-6DDD69C9B5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2D9923-5E38-40F4-BCA0-FA40EC4B6A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35D741-906F-41E3-9430-5FB05AEF13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346AB2-3721-4EEB-8E5E-E4395D6B78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2390B0-0220-4D6A-B21F-01DFC41BE7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7AF83D6-5448-40A1-8604-5DBA4542BA8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5523199-2F34-4B7F-B1AD-43173382BC3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71E5097-B69A-4205-BB19-E0718BEE01E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8A44AC7-7F4E-4DBE-A554-C83E471A95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64EE243-B323-422B-900B-B2CD300CE8F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A83A599-6B3E-490F-80C6-192229AF6FD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63D137-A11E-4103-A8FC-B1743EA0359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15F716A-80AB-4A5A-87F6-4D25BB6CBA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718A4B9-C244-44AB-BA2C-811F6C34ED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D3961E-E6F3-4A5F-AA41-55C56E2AF3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0E05CC-F64F-4314-B1D8-2041BCD26D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9586452-EB20-4E3C-8C8E-B292887D021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ABC1F49-D1C1-4F49-88E7-51F23FCD91C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CF1D346-D392-44DA-A721-DD551AE4114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BBC9AA9-52B1-445A-B74E-54376536836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616EF62-1695-4910-B2F5-97AD7FEB999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AF42AE4-C4C7-4538-86ED-7F69C98BF4E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0158FF6-C98E-4A5D-972F-76BC6996108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E4032EC-C23D-4BF9-BCAE-365EFE7BF24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6994308-5312-4CAC-86AD-43593706DC7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0A5B73-D013-4FEA-AF62-F92E28CD8E4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832E0-6277-4532-A685-506037965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5955FFC-BBCB-4EC9-9C21-A731546A20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AABCB61-9562-4F09-B2C2-750CC0C13B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3103D76-3ABF-4C76-B396-05F6DE24CBF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13EEF87-FF1B-4419-8A19-5CEF12E3E8C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B609742-BBE2-4AF3-A28B-62C5620C6B6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A521F71-AE81-41E3-A32D-A5F1372C511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3BAF753-F0E7-45B8-87EE-F9483B37E38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BC96F94-A609-4EAF-B450-849C393253D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A973BC2-B5C1-46B7-87EB-FCA65B20E38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18D3599-C6E8-4FF6-B106-B1E02430C83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995A7CB-3A3A-4C98-A294-B5E35E21010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DB034D4-4D3D-47DD-B95A-2DA055E3514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523FF7C-B25F-4D4A-BB9B-440AD3068FF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6F67CD2-CB64-4008-AF88-B82A5267FEA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CE6A6CA-D552-4B48-8BBF-46AEADFBF3A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A9F82C6-47F7-4337-A960-5B1F5305B08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63E15A4-E334-4D91-9862-513C763E25A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839F2-A79C-4360-B1D3-9643E659B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91243-4120-4FEB-8F97-1C3452736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BECCEA-368E-4851-B0B5-CF915CFA62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00B57-59C3-4651-8BA3-3C9AC034C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82A6E-E0FC-4AB2-A811-4AB76A505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68B6A-15FD-44CE-9CD5-8C62826BF2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571EB-B113-4CC2-8946-E2B97D4F9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AE1E2-719F-4476-AD89-2BEF99326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A7633-03A6-4F6B-92DF-8DE567147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8CD47-B465-4CCB-ACE6-8DDB4E532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93D60-F202-4BAD-B3F8-C99EB7344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692BC-A190-4E28-8B4C-D20A2E97F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A2AEE-37C3-4323-A890-12E77240F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87AC0F-2BD5-4C1B-AF35-C5B2804D7E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12E81-690F-432F-BA98-39EB9BB7F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EF2672-3C7E-4933-B273-94E9CA6BAF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385901-097F-4BEC-91B5-FCF59C2245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F431A0-C10C-41C2-9C08-444FA91149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653C05-1B5D-4D43-9496-22594A608C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31B8C1-F0E9-41F8-9E40-A01265F6C5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D7A807-3D24-41E5-8AC0-E159FE50DA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246C5A-479A-4DD3-8591-31C13D1430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4B1E50-CC37-4DFE-9FF5-AF423FA018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27EB59-3188-4BE1-BDF8-6D583B7335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405D50-E04E-4C6B-9C9B-226F035283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8586B-D61E-42B9-BAC3-FC30EA17B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723F87-E92B-4178-B949-68C232A23D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BA1A87-2D9F-4F4C-B4DA-ED0A9EC7FA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CEEB9B-6EF1-4158-82A9-628B5F333B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0FD4D7-A73C-4FFE-96AC-E188F2E341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EB5940-ADBB-4B02-8D47-D90834078C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30B9B3-5688-4E5C-80C1-CAF20E4836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4395F6-B7DB-42D8-BF4C-9C0266635E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8E90B1-B125-4B10-8823-B1AC610802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9B96CB-5C80-47B2-B576-BD7376684D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FDE119-66F7-4F57-9C86-6C78C71645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7CEFA-A81B-4332-ADA8-2846A43D4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46A536-F525-4AC7-8027-FF7304603E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9E021F-70FB-4E51-B2B1-FFACE77ED8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9DA9AC-D45E-41E7-9633-FE2D8DE07D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1FEF52-6986-4D23-853F-4243B5AFDF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693145-8C0F-4FA6-99E5-C8ADDDBE97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9D0763-64CB-4CC2-ACAE-5D7FCF63BA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3BDE96-530C-44BD-83CF-6387B27A95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88FDB9-4677-4138-A3B8-65B1223E16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B8BB09-9F5D-457C-8266-0281A1A156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BA0B52-D33E-4ECB-9CFA-A54FE820EB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B9F78-AD50-4DF6-B07A-E92554104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42DD88-5B3F-4F60-B562-CE1DBA80F9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E1FF5E-E944-4D11-A1CB-82762F92E3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90613A-7382-4667-B1A7-9D895B9396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082C77-809E-4B5E-AB88-AC16FFEB59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2C76B5-11CF-451A-9963-07467AE256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FD3DCA-492E-4654-B470-E76DCA1D7E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B14BD3-3A6D-49B5-A072-DB60A70C52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9F68A8-3557-428F-A25D-E9381B2EF0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2EF2E3-813F-4DCE-BB52-7B0B18FEA8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9D790A-F1C6-484F-A985-03D4512A6ECB}"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3C050-C510-4B0E-88A6-03393AB06D19}"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E2169-1875-4CD1-8D66-23A3125C7BBF}"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C8C72-E482-4808-BCAC-6E91127315E7}"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0AC8A-3B0F-4286-92D0-99AD6D3C3C83}"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33748-01ED-4B16-8375-E0E0A65D6F36}"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253A3-250A-4052-BFC0-3899B38C1E9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39E71-AD7E-4AD8-AA5E-B5D9E3FDC1D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C6E34-2051-4C35-A75A-5DB09BAC6A4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E6C50-95D7-4E93-974C-23584058D66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02A31-7A79-4A94-8ED2-43289A4BEE8F}"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FF06D-C795-4C44-82A4-3B8FE81DF30B}"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CC06-2495-45FA-B495-B19C7DF52DC1}"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8C279-E93C-406C-BAB5-743B7B3F9C2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176FB-0AFD-410A-A469-04EDB077215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9"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condary amine TCA's :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rtriptyline and Desipram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side effects than Amitriptylin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lective Serotonin Reuptake Inhibitors (SSRI):</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uoxet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tolera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effective in relieving neuropath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7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option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2" name=""/>
          <p:cNvSpPr txBox="1"/>
          <p:nvPr/>
        </p:nvSpPr>
        <p:spPr>
          <a:xfrm>
            <a:off x="777960" y="1387440"/>
            <a:ext cx="806112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nthetic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cial opioid for severe plexopathy given </a:t>
            </a:r>
            <a:br>
              <a:rPr sz="2200"/>
            </a:br>
            <a:r>
              <a:rPr b="0" lang="en-US" sz="2200" spc="-1" strike="noStrike">
                <a:solidFill>
                  <a:srgbClr val="1a1a1a"/>
                </a:solidFill>
                <a:latin typeface="Open Sans"/>
              </a:rPr>
              <a:t>long half-life of 24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difficult to titr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t 2.5-5mg methadone PO 4 times a day for 2-3 day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pre-existing opioids on day 1</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insufficient pain relief or breakthrough pa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ive an extra 2.5-5 mg dose (with at least 1 hour in between extra do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patient was on very high doses of oral morphine (&gt;1000mg per day) before the conversio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rt with 50mg methadone PO 4 times a day on day 1</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y day 2-3:</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rease methadone dosing up to a 30% increase if pain control has not been adequate.</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7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5-month-old female diagnosed with a brain tumor called Atypical Teratoid Rhabdoid Tumor (ATRT). She underwent surgery, intraventricular shunt placement, and chemotherapy. The tumor continued to grow after surgery despite therapy and her shunt was no longer sufficient to relieve her increased intracranial pressure (ICP). She was nauseated with the slightest reposition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7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treat her increased ICP, meningeal irritation, and decrease her nausea, she was started on steroids and had significant improvement. She continued to clinically decline and eventually passed away, but the steroids helped control her nausea and ensure comfor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ificant benefit by their anti-inflammatory </a:t>
            </a:r>
            <a:br>
              <a:rPr sz="2200"/>
            </a:br>
            <a:r>
              <a:rPr b="0" lang="en-US" sz="2200" spc="-1" strike="noStrike">
                <a:solidFill>
                  <a:srgbClr val="1a1a1a"/>
                </a:solidFill>
                <a:latin typeface="Open Sans"/>
              </a:rPr>
              <a:t>properties and blocking cytokin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 very well with bone pain, brain tumors </a:t>
            </a:r>
            <a:br>
              <a:rPr sz="2200"/>
            </a:br>
            <a:r>
              <a:rPr b="0" lang="en-US" sz="2200" spc="-1" strike="noStrike">
                <a:solidFill>
                  <a:srgbClr val="1a1a1a"/>
                </a:solidFill>
                <a:latin typeface="Open Sans"/>
              </a:rPr>
              <a:t>and spinal cord com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edema, swelling and inflammation around a tumor s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 appet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ause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fatigue and provide a sense of well-be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a:t>
            </a:r>
            <a:r>
              <a:rPr b="0" lang="en-US" sz="2200" spc="-1" strike="noStrike">
                <a:solidFill>
                  <a:srgbClr val="1a1a1a"/>
                </a:solidFill>
                <a:latin typeface="Open Sans"/>
              </a:rPr>
              <a: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ed use with immunosuppression, </a:t>
            </a:r>
            <a:br>
              <a:rPr sz="2200"/>
            </a:br>
            <a:r>
              <a:rPr b="0" lang="en-US" sz="2200" spc="-1" strike="noStrike">
                <a:solidFill>
                  <a:srgbClr val="1a1a1a"/>
                </a:solidFill>
                <a:latin typeface="Open Sans"/>
              </a:rPr>
              <a:t>pathologic fractures, swelling and delirium </a:t>
            </a:r>
            <a:br>
              <a:rPr sz="2200"/>
            </a:br>
            <a:r>
              <a:rPr b="0" lang="en-US" sz="2200" spc="-1" strike="noStrike">
                <a:solidFill>
                  <a:srgbClr val="1a1a1a"/>
                </a:solidFill>
                <a:latin typeface="Open Sans"/>
              </a:rPr>
              <a:t>if patient is not termin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nausea/appetite stimulant: 2 mg dose PO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 16-32 mg/day as a starting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y cases (ie: cord compression): initial IV doses of 100mg followed by 60mg divided into 3 doses should be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MDA- Receptor antagonists</a:t>
            </a:r>
            <a:endParaRPr b="0" lang="en-US" sz="3200" spc="-1" strike="noStrike">
              <a:solidFill>
                <a:srgbClr val="333333"/>
              </a:solidFill>
              <a:latin typeface="Open Sans Semibold"/>
            </a:endParaRPr>
          </a:p>
        </p:txBody>
      </p:sp>
      <p:sp>
        <p:nvSpPr>
          <p:cNvPr id="784" name=""/>
          <p:cNvSpPr txBox="1"/>
          <p:nvPr/>
        </p:nvSpPr>
        <p:spPr>
          <a:xfrm>
            <a:off x="777960" y="1387440"/>
            <a:ext cx="80611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zes NMDA receptors to block transmission </a:t>
            </a:r>
            <a:br>
              <a:rPr sz="2200"/>
            </a:br>
            <a:r>
              <a:rPr b="0" lang="en-US" sz="2200" spc="-1" strike="noStrike">
                <a:solidFill>
                  <a:srgbClr val="1a1a1a"/>
                </a:solidFill>
                <a:latin typeface="Open Sans"/>
              </a:rPr>
              <a:t>of pain at the level of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only if opioid analgesia is ineffectiv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central sedation for extreme pain by blocking transmission of pain through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side-effect: psychotic symptoms</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avoid: use in conjunction with low dose diazepam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25 mg t.i.d. combined with low dose diazepam </a:t>
            </a:r>
            <a:br>
              <a:rPr sz="2200"/>
            </a:br>
            <a:r>
              <a:rPr b="0" lang="en-US" sz="2200" spc="-1" strike="noStrike">
                <a:solidFill>
                  <a:srgbClr val="1a1a1a"/>
                </a:solidFill>
                <a:latin typeface="Open Sans"/>
              </a:rPr>
              <a:t>(ie: 5m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nabinoids</a:t>
            </a:r>
            <a:endParaRPr b="0" lang="en-US" sz="3200" spc="-1" strike="noStrike">
              <a:solidFill>
                <a:srgbClr val="333333"/>
              </a:solidFill>
              <a:latin typeface="Open Sans Semibold"/>
            </a:endParaRPr>
          </a:p>
        </p:txBody>
      </p:sp>
      <p:sp>
        <p:nvSpPr>
          <p:cNvPr id="7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ta-9-tetra-hydrocannabinol (TH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rug dronabinol (Marin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neuropathic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ppet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lack of well-defined studies in the area of cancer-related neuropathic pain so they are not currently recommended, but being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761760" y="335268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anagement of</a:t>
            </a:r>
            <a:br>
              <a:rPr sz="4000"/>
            </a:br>
            <a:r>
              <a:rPr b="0" lang="en-US" sz="4000" spc="-1" strike="noStrike">
                <a:solidFill>
                  <a:srgbClr val="1a1a1a"/>
                </a:solidFill>
                <a:latin typeface="Open Sans Light"/>
                <a:ea typeface="Open Sans Light"/>
              </a:rPr>
              <a:t> pain-related symptom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800"/>
            <a:ext cx="5337360" cy="493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371600" y="5715000"/>
            <a:ext cx="6407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Open Sans"/>
                <a:ea typeface="Open Sans Light"/>
              </a:rPr>
              <a:t>Type in the name of 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was a 17 month-old female with progressive leukemia was on a hydromorphone PCA at the end of life. She developed severe opioid-induced constipation while on an enteral regimen and had significant abdominal distention and rectal prolapse. There were no enteral options given her clinical decline and enemas did not bring relief. She was given an injection of methylnaltrexone subcutaneously and stooled several times in less than 1 hour. This relieved her distention and rectal prolap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severe and painful, especially after significant opioid us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ferred to as opioid-induced constipation (OIC)</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factorial causes and can be very difficult to tre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he best treatment is preven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 bowel regimen at initiation of opioid use with every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wise approach with known measures (according to IASP Guidelines ?) as mentioned in low-technology tal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3" name=""/>
          <p:cNvSpPr txBox="1"/>
          <p:nvPr/>
        </p:nvSpPr>
        <p:spPr>
          <a:xfrm>
            <a:off x="777960" y="1387440"/>
            <a:ext cx="8213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tions for refractory OIC (opioid-induced constipat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lo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ly metabolized in its first pass through the liver</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st only at the intestinal sites to counteract the effects of the opioid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2-4mg PO q.i.d.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hylnaltre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ective opioid antagonist onl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0.15mg/kg subcutaneously every other da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not use more than once a day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cost: limits this to “emergency” case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safe pediatric dosing known</a:t>
            </a:r>
            <a:endParaRPr b="0" lang="en-US" sz="2200" spc="-1" strike="noStrike">
              <a:solidFill>
                <a:srgbClr val="1a1a1a"/>
              </a:solidFill>
              <a:latin typeface="Open Sans"/>
            </a:endParaRPr>
          </a:p>
          <a:p>
            <a:pPr lvl="3" marL="1377360" indent="-255600">
              <a:lnSpc>
                <a:spcPts val="3600"/>
              </a:lnSpc>
              <a:buClr>
                <a:srgbClr val="1a1a1a"/>
              </a:buClr>
              <a:buFont typeface="Arial"/>
              <a:buChar char="–"/>
              <a:tabLst>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eganglionic splanchnic nerves that travel to the spinal cord from T5-T12 can be blocked to alleviate pain transmitted from the abdomen in a few area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only be done after imaging and by a trained, experienced therapis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ok knowledge is insufficient to perform the procedur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formed to help augment pain control for intractable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7"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as for potential 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eliac Plexus: for upper abdominal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yenteric Plexus: for colon and pelvic organ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gastric Plexus: for bladder and rectosigmoid </a:t>
            </a:r>
            <a:br>
              <a:rPr sz="2200"/>
            </a:br>
            <a:r>
              <a:rPr b="0" lang="en-US" sz="2200" spc="-1" strike="noStrike">
                <a:solidFill>
                  <a:srgbClr val="1a1a1a"/>
                </a:solidFill>
                <a:latin typeface="Open Sans"/>
              </a:rPr>
              <a:t>colon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ful in pancreatic and abdominal cancer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often present later than other types of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eat option if pain is extreme after known regimens and available, but need highly skilled and trained pers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reports suggest 90-100% of abdominal pain can be successfully treated with simpl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7% of people with bone metastasis report severe pain (7-10/10) and 22% experienced intolerabl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jority of this pain can be very difficult to tre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escalates at end of life for bone canc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standard use of NSAIDS and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roids can be very helpful as well (discussed earli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di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60-90% of patients radiation with 60 Gy in 30 fractions over 6 weeks with daily treatments has been effectiv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nct to orthopedic surgery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relieve pain, prevent pathologic bone fractures, promote healing of pathologic 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it takes up to 3 weeks to have effect, so not a good acute pain relief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ton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calcem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hibits Na and Ca resorption by the renal tubul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s rapidly, but tachyphylaxis occurs quick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ubcutaneously or intranasally (200 IU in one nostril daily and alternate nostrils each da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Bone Pain</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sphosphonat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irect inhibition of osteoclast activity and therefore bone resorp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ay onset of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eed for radiation and reduce hypercalcem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s: zoledronic acid (stronger) and pamidrona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of Zolendronic acid: 4 mg I.V. every 3-4 weeks (not approved for pediatric u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ve Brac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30% of patients with bone metastasis develop fractures of the long b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on of fractures can be attemp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ly works well for the upper extremities because the lower extremities are weight-bear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ims and Topics</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delivery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vant me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agement of refractory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ecific types of pain and their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ventiona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arls of wisdom</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tebral fractures: bracing combined with radiotherapy. Surgical stabilization may be needed for pain control and immobiliz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fractures: brace and stabilization. Consider further treatment depending on patient prognosis and risk of surge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2895480"/>
            <a:ext cx="7944120" cy="136224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Specific types of pain management</a:t>
            </a:r>
            <a:br>
              <a:rPr sz="4000"/>
            </a:br>
            <a:r>
              <a:rPr b="0" lang="en-US" sz="4000" spc="-1" strike="noStrike">
                <a:solidFill>
                  <a:srgbClr val="1a1a1a"/>
                </a:solidFill>
                <a:latin typeface="Open Sans Light"/>
                <a:ea typeface="Open Sans Light"/>
              </a:rPr>
              <a:t>methods  and their use </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urals</a:t>
            </a:r>
            <a:endParaRPr b="0" lang="en-US" sz="3200" spc="-1" strike="noStrike">
              <a:solidFill>
                <a:srgbClr val="333333"/>
              </a:solidFill>
              <a:latin typeface="Open Sans Semibold"/>
            </a:endParaRPr>
          </a:p>
        </p:txBody>
      </p:sp>
      <p:sp>
        <p:nvSpPr>
          <p:cNvPr id="812" name=""/>
          <p:cNvSpPr txBox="1"/>
          <p:nvPr/>
        </p:nvSpPr>
        <p:spPr>
          <a:xfrm>
            <a:off x="777960" y="1387440"/>
            <a:ext cx="80611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rve Blocks or catheters to provide local control via anaesthetic injection or continuous infusion through </a:t>
            </a:r>
            <a:br>
              <a:rPr sz="2200"/>
            </a:br>
            <a:r>
              <a:rPr b="0" lang="en-GB" sz="2200" spc="-1" strike="noStrike">
                <a:solidFill>
                  <a:srgbClr val="1a1a1a"/>
                </a:solidFill>
                <a:latin typeface="Open Sans"/>
              </a:rPr>
              <a:t>a cathe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rapid escalation of </a:t>
            </a:r>
            <a:r>
              <a:rPr b="0" lang="en-US" sz="2200" spc="-1" strike="noStrike">
                <a:solidFill>
                  <a:srgbClr val="1a1a1a"/>
                </a:solidFill>
                <a:latin typeface="Open Sans"/>
              </a:rPr>
              <a:t>systemic opioids does not provide adequate pain relief</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uncontrollable side effects of systemic 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help reduce somnolence by providing local pain control and facilitate interactions with family members and health care team (e.g. to discuss goals of care)</a:t>
            </a:r>
            <a:endParaRPr b="0" lang="en-US" sz="2200" spc="-1" strike="noStrike">
              <a:solidFill>
                <a:srgbClr val="1a1a1a"/>
              </a:solidFill>
              <a:latin typeface="Open Sans"/>
            </a:endParaRPr>
          </a:p>
        </p:txBody>
      </p:sp>
      <p:sp>
        <p:nvSpPr>
          <p:cNvPr id="813" name="Text Box 4"/>
          <p:cNvSpPr/>
          <p:nvPr/>
        </p:nvSpPr>
        <p:spPr>
          <a:xfrm>
            <a:off x="4191120" y="3808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Nerve blocks or catheters  provide regional analgesia ?</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axial and peripheral blocks</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axial and peripheral block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ingly used for pain control at the end of life in adults with cancer-relat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ections and risk of the catheter becoming dislodged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t be taken into consideration, especially if there are not anesthesiologists available in the tow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Line 4"/>
          <p:cNvSpPr/>
          <p:nvPr/>
        </p:nvSpPr>
        <p:spPr>
          <a:xfrm>
            <a:off x="762120" y="609480"/>
            <a:ext cx="1447560" cy="76320"/>
          </a:xfrm>
          <a:prstGeom prst="line">
            <a:avLst/>
          </a:prstGeom>
          <a:ln w="9360">
            <a:solidFill>
              <a:srgbClr val="1a1a1a"/>
            </a:solidFill>
            <a:miter/>
          </a:ln>
        </p:spPr>
        <p:style>
          <a:lnRef idx="0"/>
          <a:fillRef idx="0"/>
          <a:effectRef idx="0"/>
          <a:fontRef idx="minor"/>
        </p:style>
        <p:txBody>
          <a:bodyPr lIns="90000" rIns="90000" tIns="29520" bIns="29520" anchor="t">
            <a:noAutofit/>
          </a:bodyPr>
          <a:p>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dotomy</a:t>
            </a:r>
            <a:endParaRPr b="0" lang="en-US" sz="3200" spc="-1" strike="noStrike">
              <a:solidFill>
                <a:srgbClr val="333333"/>
              </a:solidFill>
              <a:latin typeface="Open Sans Semibold"/>
            </a:endParaRPr>
          </a:p>
        </p:txBody>
      </p:sp>
      <p:sp>
        <p:nvSpPr>
          <p:cNvPr id="81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destructive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erolateral horns of spinothalamic tract are destroyed which provides contralater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ust be strictly unilateral, recurrent and untreatable in a patient with a limited life expec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ications: paresis, ataxia, phrenic nerve paraly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16-year-old male who presents with a right arm mass, and he was found to have metastatic osteosarcoma. His arm pain was increasing despite very high levels of opioids</a:t>
            </a:r>
            <a:endParaRPr b="0" lang="en-US" sz="2200" spc="-1" strike="noStrike">
              <a:solidFill>
                <a:srgbClr val="1a1a1a"/>
              </a:solidFill>
              <a:latin typeface="Open Sans"/>
            </a:endParaRPr>
          </a:p>
        </p:txBody>
      </p:sp>
      <p:pic>
        <p:nvPicPr>
          <p:cNvPr id="821" name="Picture 4" descr=""/>
          <p:cNvPicPr/>
          <p:nvPr/>
        </p:nvPicPr>
        <p:blipFill>
          <a:blip r:embed="rId1"/>
          <a:srcRect l="14143" t="19296" r="0" b="23754"/>
          <a:stretch/>
        </p:blipFill>
        <p:spPr>
          <a:xfrm>
            <a:off x="2666880" y="3733920"/>
            <a:ext cx="4187880" cy="277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became sedated secondary to the medications required to control his pain and could no longer go to school and his quality of life was declining. It was decided to amputate his right arm for improved pain control as the tumor continued to grow. After the post-operative period he required little medication to control his pain and was able to return to school and activities with friends and famil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rgery</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anagement may be very difficult as </a:t>
            </a:r>
            <a:br>
              <a:rPr sz="2200"/>
            </a:br>
            <a:r>
              <a:rPr b="0" lang="en-US" sz="2200" spc="-1" strike="noStrike">
                <a:solidFill>
                  <a:srgbClr val="1a1a1a"/>
                </a:solidFill>
                <a:latin typeface="Open Sans"/>
              </a:rPr>
              <a:t>cancer progresse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en when it is not curative, may be a significant benefit for local pain contro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liative to remove metastatic disease which may decrease pain (ie: limb with growing bone tumo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in abscesses or infections to avoid further pressure and pain within a confined space, such as a limb</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te: must take into consideration prognosis, surgical and anesthesia risk as well as all risks and benefits for each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Pearls of Wisdo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28"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drugs and options to treat cancer pain.</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ways maximize low-technology options such as opioids first. </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arting opioids, always start a bowel regimen to prevent constipation at the same time.</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nk about the underlying cause for the pain to help you find the best way to treat it.</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symptoms begin, start treatment with adjuvant drugs early and do not wait until the symptoms are intolerable as many adjuvant therapies do not bring immediate relief.</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y preval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icult to treat, especially at the end of li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ute crisis episodes, but often chron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o try conventional, low-technology treatment options firs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30" name=""/>
          <p:cNvSpPr txBox="1"/>
          <p:nvPr/>
        </p:nvSpPr>
        <p:spPr>
          <a:xfrm>
            <a:off x="762120" y="114300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can be very difficult to treat and it is best managed with a combination of drugs, not opioids alo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y invasive nerve blocks or procedures should only be done by well-trained personnel. While they are very effective, they could harm the patient more than benefit hi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resources are limited there may be very few options available for you. Remember that increasing opioids until the patients  obtain pain relief is always an option at the end of lif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32" name=""/>
          <p:cNvSpPr txBox="1"/>
          <p:nvPr/>
        </p:nvSpPr>
        <p:spPr>
          <a:xfrm>
            <a:off x="380880" y="1371600"/>
            <a:ext cx="83059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e Curriculum for Pain Management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rcadante S, Fulfaro F. Management of Painful Bone Metastases. Curr Opin Oncol 2007; 19:308-14.</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45720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34" name="PlaceHolder 2"/>
          <p:cNvSpPr>
            <a:spLocks noGrp="1"/>
          </p:cNvSpPr>
          <p:nvPr>
            <p:ph/>
          </p:nvPr>
        </p:nvSpPr>
        <p:spPr>
          <a:xfrm>
            <a:off x="761760" y="1676160"/>
            <a:ext cx="7831080" cy="2057400"/>
          </a:xfrm>
          <a:prstGeom prst="rect">
            <a:avLst/>
          </a:prstGeom>
          <a:noFill/>
          <a:ln w="0">
            <a:noFill/>
          </a:ln>
        </p:spPr>
        <p:txBody>
          <a:bodyPr lIns="0" rIns="0" tIns="0" bIns="0" anchor="t">
            <a:normAutofit fontScale="74000"/>
          </a:bodyPr>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  </a:t>
            </a:r>
            <a:r>
              <a:rPr b="0" lang="en-US" sz="3600" spc="-1" strike="noStrike">
                <a:solidFill>
                  <a:srgbClr val="1a1a1a"/>
                </a:solidFill>
                <a:latin typeface="Open Sans"/>
                <a:ea typeface="Times New Roman"/>
              </a:rPr>
              <a:t>Jamie Laubisch MD, Justin Baker MD &amp; Doralina Anghelescu MD</a:t>
            </a:r>
            <a:endParaRPr b="0" lang="en-US" sz="36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Memphis, US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ＭＳ Ｐゴシック"/>
              </a:rPr>
              <a:t>Talks in the International Pain School include the following: </a:t>
            </a:r>
            <a:endParaRPr b="0" lang="en-US" sz="1800" spc="-1" strike="noStrike">
              <a:solidFill>
                <a:srgbClr val="1a1a1a"/>
              </a:solidFill>
              <a:latin typeface="Calibri"/>
            </a:endParaRPr>
          </a:p>
        </p:txBody>
      </p:sp>
      <p:sp>
        <p:nvSpPr>
          <p:cNvPr id="836" name="Rectangle 10"/>
          <p:cNvSpPr/>
          <p:nvPr/>
        </p:nvSpPr>
        <p:spPr>
          <a:xfrm>
            <a:off x="533520" y="304920"/>
            <a:ext cx="55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37" name=""/>
          <p:cNvGraphicFramePr/>
          <p:nvPr/>
        </p:nvGraphicFramePr>
        <p:xfrm>
          <a:off x="380880" y="1447920"/>
          <a:ext cx="8534520" cy="4867200"/>
        </p:xfrm>
        <a:graphic>
          <a:graphicData uri="http://schemas.openxmlformats.org/drawingml/2006/table">
            <a:tbl>
              <a:tblPr/>
              <a:tblGrid>
                <a:gridCol w="4724640"/>
                <a:gridCol w="380988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 Chronic pain, addiction and dependence, old age and dementia, obstetrics and lactatio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39" name="Picture 6" descr=""/>
          <p:cNvPicPr/>
          <p:nvPr/>
        </p:nvPicPr>
        <p:blipFill>
          <a:blip r:embed="rId1"/>
          <a:stretch/>
        </p:blipFill>
        <p:spPr>
          <a:xfrm>
            <a:off x="762120" y="3048120"/>
            <a:ext cx="7954920" cy="3325680"/>
          </a:xfrm>
          <a:prstGeom prst="rect">
            <a:avLst/>
          </a:prstGeom>
          <a:ln w="0">
            <a:noFill/>
          </a:ln>
        </p:spPr>
      </p:pic>
      <p:sp>
        <p:nvSpPr>
          <p:cNvPr id="840"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odes of Medication Delivery</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Pum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asal rate (continuous rate) and deman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ton for the patient to push when they have increas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receive a small bolus of IV pain medication (demand dose) at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 and frequency of demand doses are set to </a:t>
            </a:r>
            <a:br>
              <a:rPr sz="2200"/>
            </a:br>
            <a:r>
              <a:rPr b="0" lang="en-US" sz="2200" spc="-1" strike="noStrike">
                <a:solidFill>
                  <a:srgbClr val="1a1a1a"/>
                </a:solidFill>
                <a:latin typeface="Open Sans"/>
              </a:rPr>
              <a:t>avoid over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s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hydromorphone and 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wake enough to push butt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ble to understand the concep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i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use at h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to increase as needed (both basal rate and demand dose or frequen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djuvant Medication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6" name=""/>
          <p:cNvSpPr txBox="1"/>
          <p:nvPr/>
        </p:nvSpPr>
        <p:spPr>
          <a:xfrm>
            <a:off x="762120" y="1676160"/>
            <a:ext cx="7696080" cy="518148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ri-cyclic Antidepressants (TCA’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potentate analgesia by increasing central norepinephrine and serotonin as well as block sodium-channels to provide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help promote natural sleep</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tart at 10-25 mg daily and titrate to effect. Maximum dose for cancer pain is 75-100 mg/day. </a:t>
            </a:r>
            <a:br>
              <a:rPr sz="2200"/>
            </a:br>
            <a:r>
              <a:rPr b="0" lang="en-US" sz="2200" spc="-1" strike="noStrike">
                <a:solidFill>
                  <a:srgbClr val="1a1a1a"/>
                </a:solidFill>
                <a:latin typeface="Open Sans"/>
              </a:rPr>
              <a:t>Give dose at night as has a sedation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aindications: preexisting cardiac disease (arrhythmias or conduction defects).</a:t>
            </a:r>
            <a:endParaRPr b="0" lang="en-US" sz="2200" spc="-1" strike="noStrike">
              <a:solidFill>
                <a:srgbClr val="1a1a1a"/>
              </a:solidFill>
              <a:latin typeface="Open Sans"/>
            </a:endParaRPr>
          </a:p>
        </p:txBody>
      </p:sp>
      <p:sp>
        <p:nvSpPr>
          <p:cNvPr id="767"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help treat neuropath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4T20:39:05Z</dcterms:created>
  <dc:creator>Laubisch, Jamie</dc:creator>
  <dc:description/>
  <dc:language>en-US</dc:language>
  <cp:lastModifiedBy>ruth</cp:lastModifiedBy>
  <dcterms:modified xsi:type="dcterms:W3CDTF">2015-06-15T09:23:25Z</dcterms:modified>
  <cp:revision>63</cp:revision>
  <dc:subject/>
  <dc:title>Cancer Pain High-Technology Treatment Methods</dc:title>
</cp:coreProperties>
</file>